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74174"/>
                </a:solidFill>
                <a:latin typeface="Verdana"/>
              </a:rPr>
              <a:t>Click to move the slide</a:t>
            </a: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44CB5-D3C0-4FF2-AEE8-D0F6C63D9D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2E228-25CD-4507-B638-2E2B667326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ECB62-BE49-4E7F-9364-74EAC71E9D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28932-8F69-4803-B6E4-6B799BC131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26BD8-6B00-459E-9203-42FA668AB4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EDC6C-52A1-4B62-8097-9A3B233E57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C84C3-7A67-4D8E-988B-154AD356F7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FFDE2-A24D-438F-AADD-0A42FFF6CD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65C82-724F-4D75-B174-48E1D9818A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7DC7F-DC0A-4F5B-8560-45F268587C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21477-9B2D-4B71-A2D6-03B730F7AD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68DD9-A8E1-4082-93BD-0E70DA0FF3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65F2F-B765-48C1-9316-43AB9DAA0D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4E81B-EF7B-42B2-A36C-2520D2E043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4610F-BFB1-4E79-9FEA-0E91907E87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6B9F5-914C-41B5-874D-CB50355F03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500B8-E640-4E21-A84B-E853CD59AF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5B70-709A-4BDC-9E15-D23BF95F2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D564-D2C3-4A36-A378-3A9B7D670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FCE1-AC42-44D6-999A-784418AFF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726C-8910-4C94-A741-9B766BCA7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F19D-92F2-4DB8-9122-5CA8B7396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C908-1001-405E-8190-7549CBF28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7B64-0104-43A0-83EF-EE86A7132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C7BE-5E2F-4BD6-900E-9C6D6B352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3E0E-AF4F-4326-B66B-D544CBA24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3EC6-B363-4089-83DE-2817FD16C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223C-25F7-420D-811E-9EBD5E14A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C326-A417-400C-AB74-82CAED635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74174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5c89c2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4D7A2-DD82-4E76-AB16-D8165588C2DF}" type="slidenum">
              <a:rPr b="0" lang="en-GB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top_stripe"/>
          <p:cNvPicPr/>
          <p:nvPr/>
        </p:nvPicPr>
        <p:blipFill>
          <a:blip r:embed="rId2"/>
          <a:srcRect l="0" t="0" r="3999" b="0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6" name="Text Box 8"/>
          <p:cNvSpPr/>
          <p:nvPr/>
        </p:nvSpPr>
        <p:spPr>
          <a:xfrm>
            <a:off x="6657120" y="560520"/>
            <a:ext cx="21160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ffffff"/>
                </a:solidFill>
                <a:latin typeface="Verdana"/>
              </a:rPr>
              <a:t>http://www.bized.co.uk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9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25560">
            <a:solidFill>
              <a:srgbClr val="1741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Text Box 10"/>
          <p:cNvSpPr/>
          <p:nvPr/>
        </p:nvSpPr>
        <p:spPr>
          <a:xfrm>
            <a:off x="7027200" y="6583320"/>
            <a:ext cx="1948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2b2b2"/>
                </a:solidFill>
                <a:latin typeface="Verdana"/>
              </a:rPr>
              <a:t>Copyright 2006 – Biz/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50632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33"/>
                </a:solidFill>
                <a:latin typeface="Verdana"/>
              </a:rPr>
              <a:t>Market Research</a:t>
            </a: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174174"/>
                </a:solidFill>
                <a:latin typeface="Verdana"/>
              </a:rPr>
              <a:t>Market Research</a:t>
            </a: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e569a"/>
                </a:solidFill>
                <a:latin typeface="Verdana"/>
              </a:rPr>
              <a:t>Cluster Samp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Primarily based on geographical areas or ‘clusters’ that can be seen as being representative of the whole popul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e569a"/>
                </a:solidFill>
                <a:latin typeface="Verdana"/>
              </a:rPr>
              <a:t>Multi-Stage Samp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ample selected from multi-stage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ub-group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e569a"/>
                </a:solidFill>
                <a:latin typeface="Verdana"/>
              </a:rPr>
              <a:t>Snowball Samp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amples developed from contacts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f existing customers – ‘word of mouth’ type approach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94428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Verdana"/>
              </a:rPr>
              <a:t>Primary Research</a:t>
            </a: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pic>
        <p:nvPicPr>
          <p:cNvPr id="72" name="Picture 4" descr="$4$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174174"/>
                </a:solidFill>
                <a:latin typeface="Verdana"/>
              </a:rPr>
              <a:t>Market Research</a:t>
            </a: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e569a"/>
                </a:solidFill>
                <a:latin typeface="Verdana"/>
              </a:rPr>
              <a:t>Primary Researc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First hand 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xpensive to collect, analyse and evalua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an be highly focussed and releva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are needs to be taken with the approach and methodology to ensure accurac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ypes of question – closed – limited information gained; open – useful information but difficult to analy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174174"/>
                </a:solidFill>
                <a:latin typeface="Verdana"/>
              </a:rPr>
              <a:t>Market Research</a:t>
            </a: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e569a"/>
                </a:solidFill>
                <a:latin typeface="Verdana"/>
              </a:rPr>
              <a:t>Quantitative and Qualitative Information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e569a"/>
                </a:solidFill>
                <a:latin typeface="Verdana"/>
              </a:rPr>
              <a:t>Quantitative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 – based on numbers – 56% of 18 year olds drink alcohol at least four times a week - doesn’t tell you why, when, how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e569a"/>
                </a:solidFill>
                <a:latin typeface="Verdana"/>
              </a:rPr>
              <a:t>Qualitative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 – more detail – tells you why, when and how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94428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Verdana"/>
              </a:rPr>
              <a:t>Purpose</a:t>
            </a: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pic>
        <p:nvPicPr>
          <p:cNvPr id="78" name="Picture 4" descr="$3$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174174"/>
                </a:solidFill>
                <a:latin typeface="Verdana"/>
              </a:rPr>
              <a:t>Market Research</a:t>
            </a: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e569a"/>
                </a:solidFill>
                <a:latin typeface="Verdana"/>
              </a:rPr>
              <a:t>Advantages of Market Researc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Helps focus attention on objectiv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ids forecasting, planning and strategic develop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ay help to reduce risk of new product develop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ommunicates image, vision, etc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Globalisation makes market information valuable (HSBC adverts!!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174174"/>
                </a:solidFill>
                <a:latin typeface="Verdana"/>
              </a:rPr>
              <a:t>Market Research</a:t>
            </a: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e569a"/>
                </a:solidFill>
                <a:latin typeface="Verdana"/>
              </a:rPr>
              <a:t>Disadvantages of Market Researc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formation only as good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s the methodology us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an be inaccurate or unreliab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Results may not be what the business wants to hear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ay stifle initiative and ‘gut feeling’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lways a problem that we may never know enough to be sure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94428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33"/>
                </a:solidFill>
                <a:latin typeface="Verdana"/>
              </a:rPr>
              <a:t>Market Research</a:t>
            </a: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pic>
        <p:nvPicPr>
          <p:cNvPr id="54" name="Picture 4" descr="$0$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94428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Verdana"/>
              </a:rPr>
              <a:t>Secondary Research</a:t>
            </a: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pic>
        <p:nvPicPr>
          <p:cNvPr id="56" name="Picture 4" descr="$1$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94428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Verdana"/>
              </a:rPr>
              <a:t>Internal Sources</a:t>
            </a: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196720"/>
            <a:ext cx="7772400" cy="178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ompany Accou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ternal Reports and Analysi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tock Analysi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Retail data - loyalty cards, till data, et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94428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Verdana"/>
              </a:rPr>
              <a:t>External Sources</a:t>
            </a: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196720"/>
            <a:ext cx="77724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Government Statistics (ON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U - Euro St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rade public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ommercial Data - Gallup, Mintel, et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Household Expenditure Surve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agazine survey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ther firms’ researc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Research documents – publications, journals, et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94428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Verdana"/>
              </a:rPr>
              <a:t>Sampling Methods</a:t>
            </a: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pic>
        <p:nvPicPr>
          <p:cNvPr id="62" name="Picture 4" descr="$2$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174174"/>
                </a:solidFill>
                <a:latin typeface="Verdana"/>
              </a:rPr>
              <a:t>Market Research</a:t>
            </a: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e569a"/>
                </a:solidFill>
                <a:latin typeface="Verdana"/>
              </a:rPr>
              <a:t>Sampling Method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e569a"/>
                </a:solidFill>
                <a:latin typeface="Verdana"/>
              </a:rPr>
              <a:t>Random Samples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 – equal chance of anyone being pick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ay select those not in the target group – indiscrimina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ample sizes may need to be large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o be representati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an be very expensi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174174"/>
                </a:solidFill>
                <a:latin typeface="Verdana"/>
              </a:rPr>
              <a:t>Market Research</a:t>
            </a: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e569a"/>
                </a:solidFill>
                <a:latin typeface="Verdana"/>
              </a:rPr>
              <a:t>Stratified or Segment Random Sampl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amples on the basis of a representative strata or seg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till random but more focus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ay give more relevant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ay be more cost effecti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174174"/>
                </a:solidFill>
                <a:latin typeface="Verdana"/>
              </a:rPr>
              <a:t>Market Research</a:t>
            </a: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e569a"/>
                </a:solidFill>
                <a:latin typeface="Verdana"/>
              </a:rPr>
              <a:t>Quota Sampl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gain – by seg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ot randomly select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pecific number on each segment are interviewed, etc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ay not be fully representati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heaper metho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7T15:36:54Z</dcterms:created>
  <dc:creator>A Ashwin</dc:creator>
  <dc:description/>
  <dc:language>en-US</dc:language>
  <cp:lastModifiedBy>Ernest Reichelt</cp:lastModifiedBy>
  <dcterms:modified xsi:type="dcterms:W3CDTF">2013-05-29T10:41:33Z</dcterms:modified>
  <cp:revision>19</cp:revision>
  <dc:subject/>
  <dc:title>###Market Research - PowerPoint Presentation###</dc:title>
</cp:coreProperties>
</file>